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9891-1702-43DC-BD7F-0178E9370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A743-20F4-4913-A255-965C1CFD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8559-6D76-461A-A54E-6AE7936D1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4787-887D-4C22-B138-8B4F16046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6097-5755-4F20-8178-CF60965E3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89D2-596C-40EF-8A02-08C0FC41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F3B5-2197-4E54-84DF-1B2DC417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EEA5-5A79-4412-A60A-A672435F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0999B-3099-4141-BDD0-6B960CDE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B1AB-5CA4-441E-A114-135330C5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49258-5CF1-4276-A5D7-FC4EB96E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5541-CB44-46FF-8A1D-256E53C1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E618F-CB12-4C63-9779-A79E3684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CEFE-491C-4760-BCC8-5CA616FE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729C-4093-40AC-B8D7-23047FAF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FB5A-06D0-4D38-9698-3C846D7DC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43F12-65D7-45CE-AF29-8971CC2D0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5EC4-05D2-4FD5-8290-D40A4785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1848-DE42-4452-8665-F940D490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6DF6-B131-4A88-AF10-D4B17475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B4A6-F3B7-4642-8DA6-D809BBEB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FADC-5FE5-434D-B7AE-62EFAE16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2D1A-0990-4554-8168-DBDE3F14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C36D-3297-42E0-B077-1A252C6A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1664-50E6-4639-A79B-E4D5A87B48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A038-30E5-430B-A681-3942D0D663F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processor status and the Flags regis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tatus fla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located in bits 0,2,4,6,7 and 1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ontrol fla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located in bits 8,9 and 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flow fla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 = 1 if signed overflow occurred, otherwise it is 0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the instructions are affect the fla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ruction               affects fla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/xchg                   n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/sub                    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/dec                      all except C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g                           al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AX,BX   where AX contains FFFFh, and BX contains FFFF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FFF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FFF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-------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 FF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stored in AX i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FFEh  = 1111 1111 1111 11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F=1 because msb is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ag names and symb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us flag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Bit                 name                         symbo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0                carry flag                        C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                Parity flag                      P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4                Auxiliary carry flag       A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6                Zero flag                         Z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                Sign flag                         S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              Overflow                        O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trol  fla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it            Name         symbol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                             Trap flag                         T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                              Interupt flag                 I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                           Direction flag                D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tatus fla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rocessor uses the status flags to reflect the result of an oper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g :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UB AX,B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is executed, the zero flag becomes 1, there by indicating that a zero result was produc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rry fla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F =1 if there is a carry out from the most significant bit(msb) on addition, or there is a borrow into the msb on subtraction; otherwise, it is 0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F is also affected by shift and rotate instr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ity fla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F=1 if the low byte of a result has an even number of one bits(even parity). It is 0 if the low byte has odd parity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g: if the result of a word addition is FFFEh, then the low byte contains 7 one bits, so PF=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uxiliary carry flag(AF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 = 1 if there is a carry out from bit 3 on addition, or a borrow into bit 3 on subtraction.  AF is used in binary coded(BCD) op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ero fla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F = 1 for a zero result, and ZF =0 for a nonzero res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 fla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F = 1 if the msb of a result is 1;  it means the result is negative if you are giving a signed interpretation.  SF=0 if the msb is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7-09-11T06:23:31Z</dcterms:created>
  <dc:creator>APIIT</dc:creator>
  <dc:description/>
  <dc:language>en-US</dc:language>
  <cp:lastModifiedBy>APIIT</cp:lastModifiedBy>
  <dcterms:modified xsi:type="dcterms:W3CDTF">1987-09-11T07:05:23Z</dcterms:modified>
  <cp:revision>2</cp:revision>
  <dc:subject/>
  <dc:title>The processor status and the Flags register</dc:title>
</cp:coreProperties>
</file>